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77D4C-9D6E-47D4-816E-F5C5C806B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A4F25-DFB6-41A1-A9DE-6ACF299D9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E6B03-FE5E-4C0D-805F-32948D0B3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EEF60-2CE7-4FFC-AF05-564A88BA2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42081E-9E7F-48FA-B4FE-3BB3DB71D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FFF1A-9F79-404E-A65E-C47CAB1A1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29D7D-0134-4034-96E6-B75646CD3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F26C5-A8F8-4720-A40B-1D0EC7206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B7949-7643-4005-9727-0AE817B85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A2255-3801-4AE2-B72B-CE34615AE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61A64-5484-4333-9B1A-7667B1B4A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F6CAA-4048-4234-9D8A-4BF6D475D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5714E-B2E4-4866-8BF2-5FAF428E5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E37E2-00F0-4E81-B1A9-80B6ABD22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E6C46-140A-45AC-8069-A85BD3C34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CEB68C-831C-4BE5-9EBD-FFB5F94F4B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449436-A75C-4688-ACF6-6F3EECE8DF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64FF9-335B-4817-9DED-786B696D6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867EA-76E3-41CF-8C6A-12C326404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21470-5AFA-4CB9-994B-47E3680D6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5CCA2-BDA6-46C4-BBAA-0F5FE2AEB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8E671-8E33-4756-A9F6-63FD13AD5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319AC-BE7C-42E7-876B-B6B6F12D3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FD6D8-B2A8-4ECE-B6AB-39536E18B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15C8A-C9F6-4638-A5A8-5B3DB276F6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CE9B-42BF-4768-B0C9-52A4CD7EB9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sunshinejoy.com/images/Egyptian_Statuette/33002.jpg&amp;imgrefurl=http://sunshinejoy.com/Default.asp%3FCategory%3D26%26Name%3DEgyptian_Statuettes&amp;usg=__4I_fkmTaEgW9SFzc6WrXbdCNBFM=&amp;h=500&amp;w=335&amp;sz=37&amp;hl=en&amp;start=14&amp;tbnid=8qulB7fLeXCYFM:&amp;tbnh=130&amp;tbnw=87&amp;prev=/images%3Fq%3Degyptian%26gbv%3D2%26hl%3Den%26sa%3DX"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Rule During the New Kingdom</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904760" y="4185720"/>
            <a:ext cx="5562360" cy="45900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Justine Coleman and Dina Ninan</a:t>
            </a:r>
            <a:endParaRPr b="0" lang="en-US" sz="2800" spc="-1" strike="noStrike">
              <a:solidFill>
                <a:srgbClr val="ffffff"/>
              </a:solidFill>
              <a:latin typeface="Times New Roman"/>
            </a:endParaRPr>
          </a:p>
        </p:txBody>
      </p:sp>
      <p:pic>
        <p:nvPicPr>
          <p:cNvPr id="122" name="Picture 5" descr="33002">
            <a:hlinkClick r:id="rId1"/>
          </p:cNvPr>
          <p:cNvPicPr/>
          <p:nvPr/>
        </p:nvPicPr>
        <p:blipFill>
          <a:blip r:embed="rId2"/>
          <a:stretch/>
        </p:blipFill>
        <p:spPr>
          <a:xfrm>
            <a:off x="8315280" y="5619600"/>
            <a:ext cx="828720" cy="1238400"/>
          </a:xfrm>
          <a:prstGeom prst="rect">
            <a:avLst/>
          </a:prstGeom>
          <a:ln w="0">
            <a:noFill/>
          </a:ln>
        </p:spPr>
      </p:pic>
      <p:pic>
        <p:nvPicPr>
          <p:cNvPr id="123" name="Picture 7" descr="egyptian-symbol-life-750"/>
          <p:cNvPicPr/>
          <p:nvPr/>
        </p:nvPicPr>
        <p:blipFill>
          <a:blip r:embed="rId3"/>
          <a:stretch/>
        </p:blipFill>
        <p:spPr>
          <a:xfrm>
            <a:off x="0" y="0"/>
            <a:ext cx="885960" cy="134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ir el-Bahri, Thebes</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tshepsut built a temple at Deir el-Bahri, Thebes. She built this temple west of the Nile and near the river of Thebes. There were three courts, the upper court, the middle court, and the lower court. The lower court was once planted with trees and vines. The ramps lead to the higher levels. In the middle court, the birth colonnade and punt colonnade were on either sides of the ramp. On the other side of the middle court with the birth colonnade, was Anubis Chapel. Hathor Chapel was on the left side of the Upper court. On the upper court there were carvings and sculptures honoring Hatshepsut's birt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atshepsut's Family Tree</a:t>
            </a:r>
            <a:endParaRPr b="1" lang="en-US" sz="4400" spc="-1" strike="noStrike">
              <a:solidFill>
                <a:srgbClr val="feec94"/>
              </a:solidFill>
              <a:latin typeface="Times New Roman"/>
            </a:endParaRPr>
          </a:p>
        </p:txBody>
      </p:sp>
      <p:sp>
        <p:nvSpPr>
          <p:cNvPr id="127"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 Wife_____Thutmose I ____Great Royal Wif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rem Wife ___ Thutmose II (50% royal) ___Hatshepsut(100% roya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utmose III (25% royal) _______ daughter</a:t>
            </a:r>
            <a:endParaRPr b="0" lang="en-US" sz="2400" spc="-1" strike="noStrike">
              <a:solidFill>
                <a:srgbClr val="ffffff"/>
              </a:solidFill>
              <a:latin typeface="Times New Roman"/>
            </a:endParaRPr>
          </a:p>
        </p:txBody>
      </p:sp>
      <p:cxnSp>
        <p:nvCxnSpPr>
          <p:cNvPr id="128" name="AutoShape 4"/>
          <p:cNvCxnSpPr>
            <a:stCxn id="127" idx="1"/>
            <a:endCxn id="127" idx="1"/>
          </p:cNvCxnSpPr>
          <p:nvPr/>
        </p:nvCxnSpPr>
        <p:spPr>
          <a:xfrm>
            <a:off x="380520" y="3787560"/>
            <a:ext cx="1080" cy="1080"/>
          </a:xfrm>
          <a:prstGeom prst="straightConnector1">
            <a:avLst/>
          </a:prstGeom>
          <a:ln w="9360">
            <a:solidFill>
              <a:srgbClr val="ffffff"/>
            </a:solidFill>
            <a:miter/>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imeline for Rule During the New Kingdom</a:t>
            </a:r>
            <a:endParaRPr b="1" lang="en-US" sz="40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800 B.C.</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1500 B.C.</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1200 B.C.</a:t>
            </a:r>
            <a:endParaRPr b="0" lang="en-US" sz="20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___________________________________</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C1567 B.C.</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C 1085 B.C.</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03-1482 Queen Hatshepsut ruled</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04-1450 Reign of Thutmose III; empire expands into Syr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atshepsut</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tshepsut was the fifth ruler of the 18</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dynasty. Hatshepsut's remains were long considered lost, but in June 2007 a mummy from Tomb KV60, known as the "Strong One" was identified as her remains by Zahi Hawass, the chief of Egypt's Supreme Council of Antiquities. Modern CT scans of that mummy believed to be Hatshepsut suggest she was about fifty years old when she died from a ruptured abscess after removal of a tooth. Although this was the cause, it is quite possible she would not have lived much longer; there are signs in her mummy of metastatic bone cancer, as well as possible liver cancer and diabet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eopatra</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leopatra VII ruled Egypt from 51 B. C. to 30 B.C. She ruled with the help of her brother. Eventually her brother died in a battle because he was not a good ruler.</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esar met Cleopatra and was charmed immediately by her.  Caesar (a Roman) and Cleopatra married and had a baby in 47 B. C.</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esar, later, was murdered.</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opatra married a man named Antony.  When Antony was</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utmose III</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utmose III was the sixth ruler of the 18</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dynasty. He reigned from 1479 to 1425 B. C. Historians consider Thutmose III to have been the Napoleon of Egypt because of his military conquests. He made seventeen military campaigns, and used warfare as a way of turning Egypt into a superpower and a military force to be reckoned with. Thutmose III is considered to be one of Egypt 's greatest warrior pharaoh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iz</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 Hatshepsut was the stepmother of____.</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utmose I</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utmose II</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utmose III</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 Someone who rules for a child until the child is old enough to rule is called a(n) _____.   </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regent.</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exile.</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dynasty.</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pharaoh.</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Alexander the Great was from where?</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hoenicia </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tarctica</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cedonia</a:t>
            </a:r>
            <a:endParaRPr b="0" lang="en-US" sz="1600" spc="-1" strike="noStrike">
              <a:solidFill>
                <a:srgbClr val="ffffff"/>
              </a:solidFill>
              <a:latin typeface="Times New Roman"/>
            </a:endParaRPr>
          </a:p>
          <a:p>
            <a:pPr marL="609480" indent="-609480">
              <a:lnSpc>
                <a:spcPct val="80000"/>
              </a:lnSpc>
              <a:spcBef>
                <a:spcPts val="400"/>
              </a:spcBef>
              <a:buClr>
                <a:srgbClr val="ffff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gypt</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 Why did Cleopatra VII commit suicide?</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7:37:08Z</dcterms:created>
  <dc:creator>Default</dc:creator>
  <dc:description/>
  <dc:language>en-US</dc:language>
  <cp:lastModifiedBy>Dina Ninan</cp:lastModifiedBy>
  <dcterms:modified xsi:type="dcterms:W3CDTF">2009-01-19T22:28:14Z</dcterms:modified>
  <cp:revision>30</cp:revision>
  <dc:subject/>
  <dc:title>Rule During the New Kingdom</dc:title>
</cp:coreProperties>
</file>